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8B9-85EA-45C7-8FFA-FAF358B3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776-988C-4A0F-A634-CBEF920B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ED9-753D-4D0C-B8C6-91D54D82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7C6-3A9E-43C0-AEB1-CABFFEE6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494F-E32D-4DB7-B90E-1B747EE2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E0DA-B7D9-4CD4-AB5E-7584C449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8605-DDC4-4B67-83B1-75C96EA0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12A0-A91C-4487-B250-7503D86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345-7FA9-4B9E-B876-A46F63A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FD3A-6876-435F-94FF-82712A61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C419-6E29-426A-8E94-D3A4C6AD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618-3724-4A4B-A4B0-E76A22D4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4F61-00BC-430A-88BF-DEC5B46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1D54-F8CB-4D3B-B77E-85694C0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E56A-6CC2-4939-867A-385B982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EB6-BC4F-4933-A501-C610BCC1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F929-0368-4207-8C1B-0DD9D4F4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286-2099-4DEA-B8C8-C4E46FFC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C16-526D-438C-9C28-D9B48765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380-DC93-4991-B379-F5C9072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872-417B-483B-A5D7-1AE9BF4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269-ED6C-4801-9145-EA66744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54C-294C-4192-AB2D-03CA6D5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B87-89B5-4273-9444-B1E464D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7F0-6BD5-47AA-83F5-5B9E2C39F20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196E-BFEF-4C64-9B26-3EEC287C592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HS 4M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dividuals and Families in a Diverse Society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Unit Three – Cou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pter Seven – Intimate Relationship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atural Selection Continued: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e Evolution of Desire – by David Buss (evolutionary psychologist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otential partners is still patterned to enable them to select the person with whom they can raise the most successful children”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In all societies women wish to “marry up”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Women are twice as likely to men to marry for financial resourc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Women are attracted to healthy, intelligent, well-educated, hard-working and ambitiou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Men are attracted to physically appealing, young &amp; healthy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summary, according to anthropology &amp; evolutionary psychology, women are attracted to good providers &amp; men are attracted to women who appear to be fertil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cial Homogamy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- a theory that describes how individuals are attracted to others from a similar social backgr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its into a Structural Functionalists’ perspec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dividuals are attracted to those who have similar backgrounds, such a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thnic background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ligi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ocio-economic statu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olitical view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Ideal Mate Theory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– attraction based on an individual’s unconscious image of an ideal ma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upports “love at first sight” and social homoga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erceptions of an ideal mate are formed from pleasant experiences with other individuals in childhood, usually a person’s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ymbolic Interactio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lter Theory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Murstein – 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ggests that patrners are first selected based on obvious stimulus characteristics, such as attractiveness, and are then passed through filters based on similar values and compatibi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e selection moves through stages (stimulus-values-rol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e text p.2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omantic Lov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oth men &amp; women desire love &amp; commitmen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ccording to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ternberg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, romantic love has three “faces”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assion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– a strong feeling of sexual desire for another, develops the fastes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imacy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– intense friendship develops more slowly, as the individual shares himself or herself with another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ommit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– maintaining the relationship while it grow &amp; offering reward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The love triangle includes all three faces – each representing a side, but some sides grow at different rates &amp; the nature of romantic love changes with tim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volutionary perspective of Romantic Love is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Love is advantageous: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assion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draws individuals together with a desire to reproduce, but the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imacy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&amp;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ommit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that follow allow them to maintain their relationship over the long term, to support each other &amp; to culture &amp; raise childre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ourtship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sorts of activities do couples go through that could be called a courtship ritual?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dividuals are allowed to win each others affec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urtship rituals in all societ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en display their resources to prove they have the potential to be good provider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omen display the qualities that make them desirable &amp; nurtur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Cultural Diversity of Courtship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hile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is fairly casual in most European cultures, in many traditional societies, courtship is a highly structured activity, with very specific formal rul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some societies, the parents or community propose potential partners, and then allow limited dating to determine whether the parties are suit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Evolution of Courtship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more closed societies, courtship is virtually eliminated altogether by the practice of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rranged marriage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, where partners are chosen for young people, typically by their parent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rbidding experimental and serial courtship and sanctioning only arranged matches is partly a means of guarding the chastity of young people and partly a matter of furthering family interests, which in such cultures may be considered more important than individual romantic preference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ver recent decades though, the concept of arranged marriage has changed or simply been mixed with other forms of dating, including Eastern and Indian ones; potential couples have the opportunity to meet and date each other before one decides on whether to continue the relationship or not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ern Datin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earlier centuries,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hen marriage was an expectatio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rather than an option, young adults were expected to court with the intention of finding a marriage partner, rather than for social reaso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wever, by the Jazz Age of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920'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, dating for fun was becoming an expectation, and by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930'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, it was assumed that any popular young person would have lots of date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s form of dating, though, was usually more chaste than is seen today, since pre-marital sex was not considered the norm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fter the sexual revolution of the 1960's and 1970's, this "old-fashioned" form of dating waned in popularity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uples became more likely to "hook up" or "hang out" with large groups than to go on an old-fashioned date, and frequently went from "hanging out" to an exclusive relationship without engaging in what their parents or grandparents might have called da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hapter Six – Marriage, Intimate Relationships &amp; Socie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hapter Seven – Intimate Relationships &amp; Marriag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hapter Eight – Relationships Issues &amp; Tre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ating &amp; Marital Succes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ree-choice marriages suggest that dating experiences leads to greater marital succes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best indicator of marital success is – being in love when you mar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gotiating Satisfying Roles in Relationship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etting married can appear to be the happiest &amp; easiest transition in life because it is ritualized, highly organized and supported by family &amp; friend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ever, the relationship roles within marriage are often difficult to se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rikson explained that individuals need to resolve the dilemma of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ntimacy verses isolatio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to develop the enduring strength  of love within the relationship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challenge is to know how to grow independently and as a partner within a coupl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Role Expectations in Marriag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emporary marriages are based on companionship, not parent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refore, marriages are based upon the principle of equa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is principle of equality is not an event, but a proces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ystems Theory – couples must discuss the structures, or the hidden rules of their new marital syste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egotiation is a process of conferring with others in order to reach an agree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egotiation is not just the joining of two individuals, but also a joining &amp; overlapping of two family systems to create a third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ine “Psychological Tasks”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eded for a Good Marriag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emotionally from the family you grew up in; not to the point of estrangement, but enough so that your identity is separate from that of your parents and sibling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ild togetherness based on a shared intimacy and identity, while at the same time set boundaries to protect each partner's autonomy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stablish a rich and pleasurable sexual relationship and protect it from the intrusions of the workplace and family obligatio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4.    For couples with children, embrace the daunting roles of parenthood and absorb the impact of a baby's entrance into the marriage. Learn to continue the work of protecting the privacy of you and your spouse as a coup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ine “Psychological Tasks”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eded for a Good Marriag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    Confront and master the inevitable crises of lif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.    Maintain the strength of the marital bond in the face of adversity. The marriage should be a safe haven in which partners are able to express their differences, anger and conflic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.    Use humor and laughter to keep things in perspective and to avoid boredom and isolatio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.    Nurture and comfort each other, satisfying each partnerís needs for dependency and offering continuing encouragement and suppor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.   Keep alive the early romantic, idealized images of falling in love, while facing the sober realities of the changes wrought by time.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ages in a Marriag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hat do you think are the stages of marriag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ree Predictable stages of a relationship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age On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– Relationships ar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omantic,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warm &amp; respectful, focusing on exploration, sexual attraction and the idealization of the partner. Individuals also build self-esteem as they try to develop the relationship that they want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age Two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flict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rises as individuals become more demanding to meet their own needs. This results in instability in the relationship &amp; requires both partners to change their behaviour. Individuals feel let down because the relationship is less rewarding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age Thre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– Couple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mpromise &amp; negotiat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 relationship that meets their needs as well as possible. The relationship becomes more realistic, mature, &amp; stab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efining Succes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veral characteristics in common for a successf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arriage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milar valu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milar leisure time activiti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ooling their incom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haring in power &amp; decision making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aving friends in comm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aving an active social life togeth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view Research Study: Why Marriages Succeed or Fail (pages 210 - 211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ome interesting find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chieving a Satisfying Relationshi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amiliarity breeds intima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nowing who you are, helps you understand your partn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nest communication nurtures trust &amp; shows respect for the other by allowing each partner to maintain his/her differenc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 able to agree on solutions to problem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 successful at negotiation – requires individual to respect &amp; honour spouses opin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uccessful couple turn to each other, not away from each other when a problems ari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aude Guldner’s Six “R’s” of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arriag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1. Roo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2. Rhythm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3. Rul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4. Ro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5. Relationship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6. Ritu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e text p. 21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s, Conflict, and Power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What do you thing is the most common problem in marriage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ommunication was most frequently mentio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Jealousy was thought to be the largest issu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onflict Theory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suggest: Nature of intimate relationships &amp; changing roles of men &amp; women in a diverse-post industrial society such as Canada's results in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 related dilemmas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for couple relationship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1. Individual verses collective interes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2. Women’s rights verses male entitlemen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. “mine” verse “yours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any of these issues revolve around two things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Division of labour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xpressive quality of the relationshi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orming Intimate Relationship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ttraction, Mate Selection, &amp; Roman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ories of Mate Attraction &amp; Mate Selectio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omantic Lov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urtshi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ating &amp; Marital Succes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gotiating Satisfying Roles in Relationship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oblems, Conflict &amp; Pow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lloway, Maureen, Holloway,G., Witte, J. (2003)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Individuals and Families in a Diverse Society.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cGraw-Hill Ryerson., Toron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ttp://sitemaker.umich.edu/psy457_lamyiu/sternberg_s_theory_of_lo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op 10 Characteristics That People Want in a Partner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. Hones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. Kindnes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. Respec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4. Compatibi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5. Humou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. Dependabi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7. Lov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8. Valu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. Religious Commona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0.Communica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ource: Bibby, Reginal. (2004) </a:t>
            </a:r>
            <a:r>
              <a:rPr b="0" i="1" lang="en-US" sz="1600" spc="-1" strike="noStrike">
                <a:solidFill>
                  <a:srgbClr val="eaeaea"/>
                </a:solidFill>
                <a:latin typeface="Arial"/>
              </a:rPr>
              <a:t>A Canadian Hopes &amp; Dream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 Vanier Institute of the Family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op 8 Reasons People Marry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. Feeling that marriage signifies commitment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2. Moral valu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3. Belief that children should have married parent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4. It is the natural thing to d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5. Financial securit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6. Religious belief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7. Pressure from famil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. Pressure from frien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ource: Bibby, Reginal. (2004)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A Canadian Hopes &amp; Dreams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  Vanier Institute of the Family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Forming Intimate Relationship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any Canadians still worry about whether they will be able to form a satisfying relationship that will last a lifetime without having to give up who they are &amp; who they want to b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ome sociologist estimate that only about 10% of contemporary marriages are truly monogamous relationships, in which one man marries one women for a lifelong relationsh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orming Intimate Relationship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at is the nature of sexual attraction and mate selection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at is the nature of romantic love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How do couples negotiate satisfying roles in their relationships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How do couples manage conflict in their marriag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ttraction, Mate Selection &amp; Romanc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hat is romance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 love affair. Ardent emotional attachment or involvement between people; love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They kept the romance alive in their marriage for 35 year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 strong, sometimes short-lived attachment, fascination, or enthusiasm for something: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a childhood romance with the 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Not clear as to whether romantic love is a fairly recent social development or whether love has a basis in human biolog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87% of all culture the relationships between men &amp; women exhibit romantic lov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atural Selection Theor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me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preferred to mate with men who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ould be good father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ould stay around to be good providers for themselves &amp; their babi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e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preferred to mate with women who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uld bear healthy babi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uld feed their childre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ad the intelligence &amp; temperament to raise them we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wo processes were at work for men &amp; women to exchange their valuable reproductive resource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dividual preferences for an attractive mat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mpetition with others for m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4:32:09Z</dcterms:created>
  <dc:creator>OCDSB User</dc:creator>
  <dc:description/>
  <dc:language>en-US</dc:language>
  <cp:lastModifiedBy>OCDSB User</cp:lastModifiedBy>
  <dcterms:modified xsi:type="dcterms:W3CDTF">2011-04-08T16:15:58Z</dcterms:modified>
  <cp:revision>8</cp:revision>
  <dc:subject/>
  <dc:title>  HHS 4M  Individuals and Families in a Diverse Society    </dc:title>
</cp:coreProperties>
</file>